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29B-9708-4E0C-9692-55E93EC7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6A8-0A2E-4F5C-8A43-C5A1094C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5AE-D94D-4128-9D07-45067B47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109-BD73-4834-9517-EF39D1ED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BE6-00F3-4819-B50E-7AE34ECC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8AE-866F-4E17-9B0A-E42F6274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DE9-6E4D-4F5B-8ECA-0FB03B93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4EA9-1DED-488D-8018-EFF94692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28E-1220-4CD7-9D69-536A0AF7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4DFC-E322-4C6C-9FEC-5E790FEA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462-7345-422C-B152-7553ED46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9D3-5A9A-4BC4-85CC-8E5B92D0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A3FE-A53D-40B5-BF67-54A5262A58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ntitled-3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828800" y="1143000"/>
            <a:ext cx="586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ivaldi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Vivaldi"/>
              </a:rPr>
              <a:t>The 7 Wonders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ivaldi"/>
              </a:rPr>
              <a:t>of the Ancient World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leatherbook"/>
          <p:cNvPicPr/>
          <p:nvPr/>
        </p:nvPicPr>
        <p:blipFill>
          <a:blip r:embed="rId2"/>
          <a:stretch/>
        </p:blipFill>
        <p:spPr>
          <a:xfrm>
            <a:off x="1752480" y="2971800"/>
            <a:ext cx="5791320" cy="3546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 rot="20085000">
            <a:off x="3123720" y="3580920"/>
            <a:ext cx="23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английског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зы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одубова Наталья Евгенье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У СО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№ 67 г.Брянс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Untitled-3_6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2286000" y="28335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английского язы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одубова Наталья Евгенье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СОШ № 67 г.Брянс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ные ресурсы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http://www.unmuseum.org/wonders.h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http://www.freedigitalphotos.net/images/gallery_Other_Travel_m166-sb_title-so_ascending-page9.html?&am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Untitled-3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4800600" y="2057400"/>
            <a:ext cx="3657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ncient Greeks loved to compile lists of the marvelous structures in their world. Though we think of the Seven Wonders of the Ancient World as a single list today, there were actually a number of lists compiled by different Greek writ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surprise to most people to learn that not all the Seven Wonders existed at the same tim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831320" y="609480"/>
            <a:ext cx="467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even Wond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the Ancient Wor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wonderpost"/>
          <p:cNvPicPr/>
          <p:nvPr/>
        </p:nvPicPr>
        <p:blipFill>
          <a:blip r:embed="rId2"/>
          <a:stretch/>
        </p:blipFill>
        <p:spPr>
          <a:xfrm>
            <a:off x="533520" y="1828800"/>
            <a:ext cx="35686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Untitled-3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espyrami"/>
          <p:cNvPicPr/>
          <p:nvPr/>
        </p:nvPicPr>
        <p:blipFill>
          <a:blip r:embed="rId2"/>
          <a:stretch/>
        </p:blipFill>
        <p:spPr>
          <a:xfrm>
            <a:off x="228600" y="1676520"/>
            <a:ext cx="4343400" cy="4647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4572000" y="175248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Giza, Egyp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ilt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ound 2560 B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omb of Pharoah Khuf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troy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Still stands toda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Height 480 ft. (146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de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Mostly limest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t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allest building in the 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ll 1311 AD and again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1647 to 187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2668680" y="685800"/>
            <a:ext cx="53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Khufu'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Grea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Pyrami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Untitled-3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hangg_heemskerck"/>
          <p:cNvPicPr/>
          <p:nvPr/>
        </p:nvPicPr>
        <p:blipFill>
          <a:blip r:embed="rId2"/>
          <a:stretch/>
        </p:blipFill>
        <p:spPr>
          <a:xfrm>
            <a:off x="304920" y="1371600"/>
            <a:ext cx="4495680" cy="4876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5105520" y="1371600"/>
            <a:ext cx="4343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ity State of Babylo     (Modern Iraq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i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ound 600 B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Royal Garde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troy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Earthquake,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nd Century B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Height probably 80 ft. (24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de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Mud brick waterproof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lea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t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Only wonder who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aeological rema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 be verifi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724760" y="380880"/>
            <a:ext cx="74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Hanging Gardens of Babyl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Untitled-3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temple_ephasis"/>
          <p:cNvPicPr/>
          <p:nvPr/>
        </p:nvPicPr>
        <p:blipFill>
          <a:blip r:embed="rId2"/>
          <a:stretch/>
        </p:blipFill>
        <p:spPr>
          <a:xfrm>
            <a:off x="228600" y="1676520"/>
            <a:ext cx="4572000" cy="46479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5029200" y="1600200"/>
            <a:ext cx="41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cation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hesu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Present day Turke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il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ound 323 B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ction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le to Goddess                                 Artem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troy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262 AD by Go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z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425 ft. (129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de of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stly mar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ther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st in a series of      temples to Artemis on this si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602360" y="636480"/>
            <a:ext cx="76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Temple of Artemis at Ephes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Untitled-3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zeus_statue_std"/>
          <p:cNvPicPr/>
          <p:nvPr/>
        </p:nvPicPr>
        <p:blipFill>
          <a:blip r:embed="rId2"/>
          <a:stretch/>
        </p:blipFill>
        <p:spPr>
          <a:xfrm>
            <a:off x="304920" y="1523880"/>
            <a:ext cx="4419360" cy="4724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4952880" y="1447920"/>
            <a:ext cx="4191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cation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loponnesu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odern Gree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il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ound 432 B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Shine to Greek God Ze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troy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Fire 5th Century A.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z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ight around 40 ft. (12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de of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ory and gold-plated plates on wooden fra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ther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ins of the workshop where it was built was fou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an excavation in the 1950'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2060640" y="533520"/>
            <a:ext cx="67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tatue of Zeus at Olympi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Untitled-3_6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maus_below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4952880" y="144792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Halicarnassus (Modern      Bodrum, Turke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i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ound 350 B.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omb for the City King,   Mausol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troy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Damaged by earthquak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13th century A.D. Final destruction by Crusaders  in 1522 A.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140 feet (43m) hig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de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White Mar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t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Built in a mixture of Egyptian, Greek and Lycian sty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1601280" y="533520"/>
            <a:ext cx="73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The Mausoleum at Halicarnass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Untitled-3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2974680" y="539640"/>
            <a:ext cx="553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The Colossus of Rho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800600" y="16002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sland of Rhode            (Modern Gree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i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Between 292 - 280 B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c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memorate War Vi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troy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226 BC by an earthqua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z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ight without 50 foot pedesta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110 ft. (30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de of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nze plates attached 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on frame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t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Made in the shape of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nd's patron god Heli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colossus_above_med"/>
          <p:cNvPicPr/>
          <p:nvPr/>
        </p:nvPicPr>
        <p:blipFill>
          <a:blip r:embed="rId2"/>
          <a:stretch/>
        </p:blipFill>
        <p:spPr>
          <a:xfrm>
            <a:off x="304920" y="1447920"/>
            <a:ext cx="43434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Untitled-3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4876920" y="1676520"/>
            <a:ext cx="426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lexandria, Egyp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i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ound 290 - 270 B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Guide Ships to       Alexandria's Harb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troy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1303 AD by earthquak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Height 450 ft. (140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de of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ne faced with white marble blocks with lead mort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t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Said to be the only ancient wonder with a practical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pharos_lighthouse_med"/>
          <p:cNvPicPr/>
          <p:nvPr/>
        </p:nvPicPr>
        <p:blipFill>
          <a:blip r:embed="rId2"/>
          <a:stretch/>
        </p:blipFill>
        <p:spPr>
          <a:xfrm>
            <a:off x="304920" y="1600200"/>
            <a:ext cx="4343400" cy="4724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1241280" y="609480"/>
            <a:ext cx="789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Great Lighthouse at Alexandri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38</cp:lastModifiedBy>
  <dcterms:modified xsi:type="dcterms:W3CDTF">2012-01-22T20:50:2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