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C35B-5934-4872-91EF-6963451F86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460F-9C82-468B-8611-A56662B29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31B7-9B53-4654-BE24-5A5DDBB61C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7B94-42DA-4C78-8C7D-97CB0106B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8097-B6EB-4991-83F2-0CB57B6699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E04-0F28-40DE-B584-1B0A7C4B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59D-4AFD-4138-97E7-25BC91BD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199E-A6B2-47F0-9C04-F87A8324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4FD-CA0F-4F2C-BFEB-FDB0CF2C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3B8A9-E8D5-43FA-BD1E-EA1D1EA6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10816-2C70-4925-B702-E94CBB0B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AC90B-D878-4393-9B2D-93E19FA7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0C4AF-43BE-4F60-904F-586FD7D1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C78DC-F997-4BB1-AA36-E425C30B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305CF-6A5A-4660-9103-A9AD629E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2586F-B6A5-4106-A50A-C52043EC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AD5-26E4-4C08-BF6B-AFE82073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B6037-BB0D-4DC3-B00B-315534BA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DA2AF-CB74-4013-9311-91E2D48B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D58C5-A617-4ABE-A4E4-F06FB2D6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FBA62-B546-400A-B1BB-98D3DF399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EF1A3-9544-4B48-81B3-8AB4B3C2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703A-4C15-4378-A405-28DF1C06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2DD-0000-4616-B26E-BEF754CD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2E2-D3DB-4873-81B3-8FCE3E8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845-7F83-400F-BFE0-2C90CBA1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7E25-4DAD-481B-AFCA-35FC2108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4D2-9A58-49FA-B035-41E2EAD7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2B2-9E35-404F-817D-BF302BFF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B72F-C1DD-440B-9EE4-C54E113522E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315F-176B-46C7-BD36-72C9C3F07D1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youtube.com/watch?v=-kEm-z6GGx8&amp;feature=related" TargetMode="External"/><Relationship Id="rId3" Type="http://schemas.openxmlformats.org/officeDocument/2006/relationships/hyperlink" Target="http://www.youtube.com/watch?v=-kEm-z6GGx8&amp;feature=related" TargetMode="External"/><Relationship Id="rId4" Type="http://schemas.openxmlformats.org/officeDocument/2006/relationships/hyperlink" Target="http://www.youtube.com/watch?v=-kEm-z6GGx8&amp;feature=related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248360" cy="3176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4500720" y="115920"/>
            <a:ext cx="4390920" cy="3186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" descr=""/>
          <p:cNvPicPr/>
          <p:nvPr/>
        </p:nvPicPr>
        <p:blipFill>
          <a:blip r:embed="rId4"/>
          <a:stretch/>
        </p:blipFill>
        <p:spPr>
          <a:xfrm>
            <a:off x="4500720" y="3357720"/>
            <a:ext cx="4427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4392720" cy="3986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716360" cy="2997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211640" y="36450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530680" y="-963720"/>
            <a:ext cx="36133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179280" y="4076640"/>
            <a:ext cx="860436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  <a:ea typeface="Lucida Sans Unicode"/>
              </a:rPr>
              <a:t>Scotland,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600" spc="-1" strike="noStrike">
                <a:solidFill>
                  <a:srgbClr val="ffff00"/>
                </a:solidFill>
                <a:latin typeface="Arial"/>
                <a:ea typeface="Lucida Sans Unicode"/>
              </a:rPr>
              <a:t>the beautiful</a:t>
            </a:r>
            <a:br>
              <a:rPr sz="60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0920" y="1197000"/>
            <a:ext cx="8893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1. Where is Scotland situ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2. What is it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3. What other big cites do you k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4. Who is its Patron Sa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5. What is Scotland washed 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imes New Roman"/>
              </a:rPr>
              <a:t>6. What rivers in Scotland do you k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7640" y="691920"/>
            <a:ext cx="889308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ad the text all the way throug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ook at the each gap. Decide what part of speech is requir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ll in the gap with a word in the appropriate form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620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549360"/>
            <a:ext cx="80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549360"/>
            <a:ext cx="705672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otland nowa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pictures we have chosen show what a beautiful country Scotland is and help us to understand its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.......................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. We decided not to include some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..................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images for the following reasons: men wearing kilts to go to work are not very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3)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.................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of men in Scotland nowadays, and images of women wearing tartans scarves do not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4)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..................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urrent Scottish fashion. On the other hand, some of the old ideas about Scotland endure: good whisky is a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...................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image of Scotland today and picture of a thistle represents the (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</a:rPr>
              <a:t>....................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flower of Scotland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48360" y="3645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bol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184464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80360" y="227664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2997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3645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451640" y="544500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453080" y="4797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2205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di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364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di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1080" y="2924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yp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73080" y="184464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tt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43640" y="5445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42920" y="907920"/>
            <a:ext cx="770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Is it typical wearing kilts nowaday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drink is traditional in Scotla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the national flower of Scotla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340000" y="189000"/>
            <a:ext cx="6335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 think (that) 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n my opinion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In my view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2205000"/>
            <a:ext cx="770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 agree.                       I don’t ag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rtainly.                   Certainly n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at’s right.               On the contr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es, but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’m afraid I don’t agre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55640" y="620640"/>
            <a:ext cx="7632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076640"/>
            <a:ext cx="7632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5805360"/>
            <a:ext cx="7632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2276640"/>
            <a:ext cx="763272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620640"/>
            <a:ext cx="0" cy="5184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88360" y="620640"/>
            <a:ext cx="0" cy="5184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32000" y="620640"/>
            <a:ext cx="71640" cy="5184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620640"/>
            <a:ext cx="0" cy="5184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119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ob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348000" y="1125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thist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2852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Cas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19640" y="278136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litary tatto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27640" y="1125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kil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285264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. B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4581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ss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450864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ghland 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508640"/>
            <a:ext cx="201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lyrood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24000" y="5950080"/>
            <a:ext cx="70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www.youtube.com/watch?v</a:t>
            </a:r>
            <a:r>
              <a:rPr b="0" lang="en-US" sz="18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=-kEm-z6GGx8&amp;feature=relate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0T17:21:54Z</dcterms:created>
  <dc:creator>Admin</dc:creator>
  <dc:description/>
  <dc:language>en-US</dc:language>
  <cp:lastModifiedBy>Пользователь</cp:lastModifiedBy>
  <dcterms:modified xsi:type="dcterms:W3CDTF">2011-02-01T13:04:50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