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9A52-EEC1-468A-BDBD-7B0D6C162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C2D-6CF9-4E24-AEB0-B1D08C29E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977D-F5DD-4F8A-BBB2-178F758AD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3EDA-6068-43ED-9128-9E27F4E4C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990D-35F9-4D72-9DA5-D82B9F45D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934-2E9F-4F35-BAA1-F4E3789DB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8B1C-59A7-4E0F-B1BF-93C481FD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09FF-8FBE-4829-BE37-1AB872A6D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ED23-68D6-4513-80E3-CEA4B87F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5E4E6-406A-4E95-BCC3-4CBA71C49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EB0E-C182-47E6-AB8C-9767FCC3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175C-446B-4704-9F05-5086600A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E8A3-7CA6-4762-8ACE-CC22F220C0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otokoshki.ru/6/koshki3928.jpg" TargetMode="External"/><Relationship Id="rId2" Type="http://schemas.openxmlformats.org/officeDocument/2006/relationships/hyperlink" Target="http://www.fotokoshki.ru/6/koshki3928.jpg" TargetMode="External"/><Relationship Id="rId3" Type="http://schemas.openxmlformats.org/officeDocument/2006/relationships/hyperlink" Target="http://photos1.fotosearch.com/bthumb/CSP/CSP350/k3508780.jpg" TargetMode="External"/><Relationship Id="rId4" Type="http://schemas.openxmlformats.org/officeDocument/2006/relationships/hyperlink" Target="http://photos1.fotosearch.com/bthumb/CSP/CSP350/k3508780.jpg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189000"/>
            <a:ext cx="6481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1400">
                  <a:solidFill>
                    <a:srgbClr val="00ffff"/>
                  </a:solidFill>
                  <a:miter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Тренажер</a:t>
            </a:r>
            <a:endParaRPr b="1" lang="en-US" sz="1800" spc="1" strike="noStrike">
              <a:ln w="41400">
                <a:solidFill>
                  <a:srgbClr val="00ffff"/>
                </a:solidFill>
                <a:miter/>
              </a:ln>
              <a:solidFill>
                <a:srgbClr val="ff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91960" y="1700280"/>
            <a:ext cx="525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Учу грамматику легк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и с удовольствием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14172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Пособие предназначено для учащихся 2 клас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общеобразовательных школ и школ с углубленным изуч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английского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Пособие может успешно использоваться на уроке и вне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Arial"/>
              </a:rPr>
              <a:t>Пособие предполагает выбор правильного варианта ответа с помощью щелчка компьютерной мыш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39120" y="5118120"/>
            <a:ext cx="520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собие составил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читель начальных класс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 правом преподавания английского язы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ешкова Елена 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МБОУ СОШ №8 г.Пушки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00"/>
            </a:gs>
            <a:gs pos="100000">
              <a:srgbClr val="755e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03280" y="333360"/>
            <a:ext cx="5616720" cy="2519280"/>
          </a:xfrm>
          <a:prstGeom prst="cloudCallout">
            <a:avLst>
              <a:gd name="adj1" fmla="val -58111"/>
              <a:gd name="adj2" fmla="val 84342"/>
            </a:avLst>
          </a:prstGeom>
          <a:solidFill>
            <a:srgbClr val="ff00ff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87280" y="1125360"/>
            <a:ext cx="61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girl has got one do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 many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356000" y="3500280"/>
            <a:ext cx="1417680" cy="1081080"/>
          </a:xfrm>
          <a:prstGeom prst="octagon">
            <a:avLst>
              <a:gd name="adj" fmla="val 29287"/>
            </a:avLst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cc"/>
                </a:solidFill>
                <a:latin typeface="Arial"/>
              </a:rPr>
              <a:t>pu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67280" y="4724280"/>
            <a:ext cx="1274760" cy="1081080"/>
          </a:xfrm>
          <a:prstGeom prst="octagon">
            <a:avLst>
              <a:gd name="adj" fmla="val 29287"/>
            </a:avLst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cc"/>
                </a:solidFill>
                <a:latin typeface="Arial"/>
              </a:rPr>
              <a:t>pup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36000" y="3500280"/>
            <a:ext cx="1346040" cy="1079640"/>
          </a:xfrm>
          <a:prstGeom prst="octagon">
            <a:avLst>
              <a:gd name="adj" fmla="val 29287"/>
            </a:avLst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cc"/>
                </a:solidFill>
                <a:latin typeface="Arial"/>
              </a:rPr>
              <a:t>a pup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3860640"/>
            <a:ext cx="2952720" cy="2654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8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" dur="1000" autoRev="1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1a423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 flipH="1">
            <a:off x="395280" y="476280"/>
            <a:ext cx="7812000" cy="1944720"/>
          </a:xfrm>
          <a:prstGeom prst="cloudCallout">
            <a:avLst>
              <a:gd name="adj1" fmla="val -42888"/>
              <a:gd name="adj2" fmla="val 91791"/>
            </a:avLst>
          </a:prstGeom>
          <a:solidFill>
            <a:srgbClr val="ff6600"/>
          </a:soli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My cat has got thre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2276640"/>
            <a:ext cx="1563480" cy="1152360"/>
          </a:xfrm>
          <a:prstGeom prst="octagon">
            <a:avLst>
              <a:gd name="adj" fmla="val 29287"/>
            </a:avLst>
          </a:prstGeom>
          <a:solidFill>
            <a:srgbClr val="8000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a k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4508640"/>
            <a:ext cx="1490760" cy="1152360"/>
          </a:xfrm>
          <a:prstGeom prst="octagon">
            <a:avLst>
              <a:gd name="adj" fmla="val 29287"/>
            </a:avLst>
          </a:prstGeom>
          <a:solidFill>
            <a:srgbClr val="8000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k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35280" y="3357720"/>
            <a:ext cx="1419120" cy="1079280"/>
          </a:xfrm>
          <a:prstGeom prst="octagon">
            <a:avLst>
              <a:gd name="adj" fmla="val 29287"/>
            </a:avLst>
          </a:prstGeom>
          <a:solidFill>
            <a:srgbClr val="80000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Arial"/>
              </a:rPr>
              <a:t>kitt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708360" y="3357720"/>
            <a:ext cx="5122800" cy="31762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9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0" dur="250" autoRev="1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2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40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8e55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68360" y="404640"/>
            <a:ext cx="6551640" cy="1944720"/>
          </a:xfrm>
          <a:prstGeom prst="cloudCallout">
            <a:avLst>
              <a:gd name="adj1" fmla="val -68777"/>
              <a:gd name="adj2" fmla="val 72939"/>
            </a:avLst>
          </a:prstGeom>
          <a:solidFill>
            <a:srgbClr val="99ff66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Does she like to play with the…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3357720"/>
            <a:ext cx="1584360" cy="122364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588000" y="5229360"/>
            <a:ext cx="1513080" cy="115236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 to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236000" y="2708280"/>
            <a:ext cx="1582560" cy="1224000"/>
          </a:xfrm>
          <a:prstGeom prst="octagon">
            <a:avLst>
              <a:gd name="adj" fmla="val 29287"/>
            </a:avLst>
          </a:prstGeom>
          <a:solidFill>
            <a:srgbClr val="00ccff"/>
          </a:solidFill>
          <a:ln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her to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4248000" cy="394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6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87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8" dur="2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9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0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1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2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9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00" dur="1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10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11" dur="10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12" dur="1000" autoRev="1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5b123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87280" y="260280"/>
            <a:ext cx="7129800" cy="2305080"/>
          </a:xfrm>
          <a:prstGeom prst="cloudCallout">
            <a:avLst>
              <a:gd name="adj1" fmla="val -33523"/>
              <a:gd name="adj2" fmla="val 84986"/>
            </a:avLst>
          </a:prstGeom>
          <a:solidFill>
            <a:srgbClr val="00ffff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She…like to play with the ba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3213000"/>
            <a:ext cx="1439640" cy="115272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d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08000" y="4869000"/>
            <a:ext cx="1368720" cy="122400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are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2997360"/>
            <a:ext cx="1513080" cy="1152360"/>
          </a:xfrm>
          <a:prstGeom prst="octagon">
            <a:avLst>
              <a:gd name="adj" fmla="val 29287"/>
            </a:avLst>
          </a:prstGeom>
          <a:solidFill>
            <a:srgbClr val="ffff00"/>
          </a:solidFill>
          <a:ln w="255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doe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64000" y="2997360"/>
            <a:ext cx="3380040" cy="33796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5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5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5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64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6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26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268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74" dur="50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75" dur="500" autoRev="1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3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174574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50920" y="3284640"/>
            <a:ext cx="2603520" cy="3305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050920" y="333360"/>
            <a:ext cx="5832720" cy="2590920"/>
          </a:xfrm>
          <a:prstGeom prst="cloudCallout">
            <a:avLst>
              <a:gd name="adj1" fmla="val -74199"/>
              <a:gd name="adj2" fmla="val 56615"/>
            </a:avLst>
          </a:prstGeom>
          <a:solidFill>
            <a:srgbClr val="ffcc00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3300"/>
                </a:solidFill>
                <a:latin typeface="Arial"/>
              </a:rPr>
              <a:t>My sister…to have a dol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80000" y="3573360"/>
            <a:ext cx="1439640" cy="129564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508720" y="4941720"/>
            <a:ext cx="1727280" cy="136872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o w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3068640"/>
            <a:ext cx="1440000" cy="1224000"/>
          </a:xfrm>
          <a:prstGeom prst="octagon">
            <a:avLst>
              <a:gd name="adj" fmla="val 29287"/>
            </a:avLst>
          </a:prstGeom>
          <a:solidFill>
            <a:srgbClr val="00ff00"/>
          </a:solidFill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w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8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6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6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6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6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2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2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2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32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2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2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33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33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6" dur="10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37" dur="10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38" dur="1000" autoRev="1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5b5b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rot="21162600">
            <a:off x="33480" y="291960"/>
            <a:ext cx="6300720" cy="2881440"/>
          </a:xfrm>
          <a:prstGeom prst="cloudCallout">
            <a:avLst>
              <a:gd name="adj1" fmla="val 63888"/>
              <a:gd name="adj2" fmla="val 49685"/>
            </a:avLst>
          </a:prstGeom>
          <a:solidFill>
            <a:srgbClr val="ff5050"/>
          </a:solidFill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hat…he want to pl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3933720"/>
            <a:ext cx="1417320" cy="1079640"/>
          </a:xfrm>
          <a:prstGeom prst="octagon">
            <a:avLst>
              <a:gd name="adj" fmla="val 29287"/>
            </a:avLst>
          </a:prstGeom>
          <a:solidFill>
            <a:srgbClr val="666699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40000" y="5157720"/>
            <a:ext cx="1370160" cy="1152720"/>
          </a:xfrm>
          <a:prstGeom prst="octagon">
            <a:avLst>
              <a:gd name="adj" fmla="val 29287"/>
            </a:avLst>
          </a:prstGeom>
          <a:solidFill>
            <a:srgbClr val="666699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to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35280" y="3645000"/>
            <a:ext cx="1368360" cy="1224000"/>
          </a:xfrm>
          <a:prstGeom prst="octagon">
            <a:avLst>
              <a:gd name="adj" fmla="val 29287"/>
            </a:avLst>
          </a:prstGeom>
          <a:solidFill>
            <a:srgbClr val="666699"/>
          </a:solidFill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cc"/>
                </a:solidFill>
                <a:latin typeface="Arial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724360" y="2924280"/>
            <a:ext cx="3178440" cy="3617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1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372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7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388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392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3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1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539640" y="115920"/>
            <a:ext cx="7272360" cy="375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ff6600"/>
                  </a:solidFill>
                  <a:miter/>
                </a:ln>
                <a:solidFill>
                  <a:srgbClr val="993366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Thank you!</a:t>
            </a:r>
            <a:endParaRPr b="0" lang="en-US" sz="1800" spc="1" strike="noStrike">
              <a:ln w="25560">
                <a:solidFill>
                  <a:srgbClr val="ff6600"/>
                </a:solidFill>
                <a:miter/>
              </a:ln>
              <a:solidFill>
                <a:srgbClr val="993366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5084640"/>
            <a:ext cx="770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www.fotokoshki.ru/6/koshki3928.jp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img-fotki.yandex.ru/get/5300/ladyo2004.34/0_4c56c_8ed57fe9_L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://photos1.fotosearch.com/bthumb/CSP/CSP350/k350878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tatic.diary.ru/userdir/2/8/7/8/2878757/72396301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media.nn.ru//data/ufiles/4/54/05/540512.1020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stihi.ru/pics/2008/11/16/1503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3T04:12:47Z</dcterms:created>
  <dc:creator>Лена</dc:creator>
  <dc:description/>
  <dc:language>en-US</dc:language>
  <cp:lastModifiedBy>Лена</cp:lastModifiedBy>
  <dcterms:modified xsi:type="dcterms:W3CDTF">2012-07-09T11:44:23Z</dcterms:modified>
  <cp:revision>8</cp:revision>
  <dc:subject/>
  <dc:title>Слайд 1</dc:title>
</cp:coreProperties>
</file>