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C8631-7816-4B11-B038-2D61C49AA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2BCB6-F631-4D45-B38F-E72A883FD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C3B46-C794-462C-97E6-838234006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0FD7F-E913-4512-944B-6A3D85E62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173A14-8AE4-46DF-B713-BEA26AAE7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78135-22ED-47B8-9F23-5F4D09B4F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77677-B94D-4CA6-A53D-1699D532E4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B9929-2528-4D81-B3A8-C37F24BCD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1560C-FC7D-4D94-A36A-C34E10AC5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D60F8-0620-4258-9AF0-CCC7FE68F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78DEC-E7B2-45D4-94CC-3018535B1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A2352-F008-4E63-A40E-71840ADD0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C6D44-7A1F-41F8-968E-1DCF66B6E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E08F4F-4B2C-4E51-A7B2-60BE2E33D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3BE3A-0DE1-4C9A-BF3D-4FA194047C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B0FF3-E60B-4C12-A12A-C80C80ADC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206F2F-4143-4874-8856-F9C268E26C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EFC27-2A7F-44C7-9F23-F6D141BC7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1D29E-4FD1-4F0D-9F11-7A303345A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B1AA4-795B-4F8E-85EC-1C0E22637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CB4D-B1A5-44C2-829D-7DB76B709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618AD-9823-47D7-85E5-B627E4C18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B986E-EB3A-4623-B31D-F433583A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39525-E846-41D1-BBB0-AC5EA2837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0F35-2F86-4CE3-8F34-12E806F3BDB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9CBB2-36DA-4C91-8E3C-4D48ECBD741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images.yandex.ru/yandsearch?text=&#1085;&#1080;&#1088;&#1074;&#1072;&#1085;&#1072;%20&#1092;&#1086;&#1090;&#1086;&amp;noreask=1&amp;img_url=yahooeu.ru%2Fuploads%2Fposts%2F2011-08%2F1313084452_1.jpg&amp;pos=8&amp;rpt=simage&amp;lr=976"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hyperlink" Target="http://images.yandex.ru/yandsearch?text=&#1085;&#1080;&#1088;&#1074;&#1072;&#1085;&#1072;&amp;img_url=kinobit.org%2Ftorrents%2Fimages%2F2822.jpg&amp;pos=3&amp;rpt=simage&amp;noreask=1&amp;lr=976" TargetMode="External"/><Relationship Id="rId2" Type="http://schemas.openxmlformats.org/officeDocument/2006/relationships/hyperlink" Target="http://images.yandex.ru/yandsearch?text=&#1085;&#1080;&#1088;&#1074;&#1072;&#1085;&#1072;%20&#1092;&#1086;&#1090;&#1086;&amp;noreask=1&amp;img_url=img1.liveinternet.ru%2Fimages%2Ffoto%2Fb%2F3%2F750%2F2642750%2Ff_14696556.jpg&amp;pos=35&amp;rpt=simage&amp;lr=976" TargetMode="External"/><Relationship Id="rId3" Type="http://schemas.openxmlformats.org/officeDocument/2006/relationships/hyperlink" Target="http://images.yandex.ru/yandsearch?text=&#1085;&#1080;&#1088;&#1074;&#1072;&#1085;&#1072;%20&#1092;&#1086;%D1%25" TargetMode="External"/><Relationship Id="rId4" Type="http://schemas.openxmlformats.org/officeDocument/2006/relationships/hyperlink" Target="http://images.yandex.ru/yandsearch?text=&#1085;&#1080;&#1088;&#1074;&#1072;&#1085;&#1072;%20&#1092;&#1086;&#1090;&#1086;&amp;noreask=1&amp;img_url=img.moskva.fm%2Fuimg%2Fartists%2Fsource%2F17%2F1786f0faf19a86a8b3f1bb36a194ddb2.jpeg&amp;pos=15&amp;rpt=simage&amp;lr=976" TargetMode="External"/><Relationship Id="rId5" Type="http://schemas.openxmlformats.org/officeDocument/2006/relationships/hyperlink" Target="http://images.yandex.ru/yandsearch?text=&#1085;&#1080;&#1088;&#1074;&#1072;&#1085;&#1072;%20&#1092;&#1086;&#1090;&#1086;&amp;noreask=1&amp;img_url=img.moskva.fm%2Fuimg%2Fartists%2Fsource%2F17%2F1786f0faf19a86a8b3f1bb36a194ddb2.jpeg&amp;pos=15&amp;rpt=simage&amp;lr=976"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9000"/>
            <a:ext cx="7772400" cy="122400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300" spc="-1" strike="noStrike">
                <a:solidFill>
                  <a:srgbClr val="ffffff"/>
                </a:solidFill>
                <a:latin typeface="Times New Roman"/>
              </a:rPr>
              <a:t>Nirvana</a:t>
            </a:r>
            <a:endParaRPr b="0" lang="en-US" sz="8300" spc="-1" strike="noStrike">
              <a:solidFill>
                <a:srgbClr val="ffffff"/>
              </a:solidFill>
              <a:latin typeface="Times New Roman"/>
            </a:endParaRPr>
          </a:p>
        </p:txBody>
      </p:sp>
      <p:sp>
        <p:nvSpPr>
          <p:cNvPr id="91" name="PlaceHolder 2"/>
          <p:cNvSpPr>
            <a:spLocks noGrp="1"/>
          </p:cNvSpPr>
          <p:nvPr>
            <p:ph type="subTitle"/>
          </p:nvPr>
        </p:nvSpPr>
        <p:spPr>
          <a:xfrm>
            <a:off x="1368360" y="3735000"/>
            <a:ext cx="6408720" cy="18478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92" name="" descr=""/>
          <p:cNvPicPr/>
          <p:nvPr/>
        </p:nvPicPr>
        <p:blipFill>
          <a:blip r:embed="rId1"/>
          <a:stretch/>
        </p:blipFill>
        <p:spPr>
          <a:xfrm>
            <a:off x="1547640" y="1557360"/>
            <a:ext cx="6048720" cy="428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9900"/>
                </a:solidFill>
                <a:uFillTx/>
                <a:latin typeface="Arial"/>
                <a:hlinkClick r:id="rId1"/>
              </a:rPr>
              <a:t>http://images.yandex.ru/yandsearch?text=%D0%BD%D0%B8%D1%80%D0%B2%D0%B0%D0%BD%D0%B0%20%D1%84%D0%BE%D1%82%D0%BE&amp;noreask=1&amp;img_url=yahooeu.ru%2Fuploads%2Fposts%2F2011-08%2F1313084452_1.jpg&amp;pos=8&amp;rpt=simage&amp;lr=976</a:t>
            </a:r>
            <a:endParaRPr b="0" lang="en-US" sz="1400" spc="-1" strike="noStrike">
              <a:solidFill>
                <a:srgbClr val="ffffff"/>
              </a:solidFill>
              <a:latin typeface="Arial"/>
            </a:endParaRPr>
          </a:p>
          <a:p>
            <a:pPr marL="343080" indent="-343080">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ttp://images.yandex.ru/yandsearch?text=%D0%BD%D0%B8%D1%80%D0%B2%D0%B0%D0%BD%D0%B0%20%D1%84%D0%BE%D1%82%D0%BE&amp;noreask=1&amp;img_url=dn.ykt2.ru%2Fdnevniki%2Fdata%2Fusers%2F3%2F3414%2Fd3abd5.jpg&amp;pos=2&amp;rpt=simage&amp;lr=976</a:t>
            </a:r>
            <a:endParaRPr b="0" lang="en-US" sz="1400" spc="-1" strike="noStrike">
              <a:solidFill>
                <a:srgbClr val="ffffff"/>
              </a:solidFill>
              <a:latin typeface="Arial"/>
            </a:endParaRPr>
          </a:p>
          <a:p>
            <a:pPr marL="343080" indent="-343080">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ttp://ru.wikipedia.org/wiki/Nirvana</a:t>
            </a:r>
            <a:endParaRPr b="0" lang="en-US" sz="1400" spc="-1" strike="noStrike">
              <a:solidFill>
                <a:srgbClr val="ffffff"/>
              </a:solidFill>
              <a:latin typeface="Arial"/>
            </a:endParaRPr>
          </a:p>
          <a:p>
            <a:pPr marL="343080" indent="-343080">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ttp://nirvanabest.ru/biografiya</a:t>
            </a:r>
            <a:endParaRPr b="0" lang="en-US" sz="1400" spc="-1" strike="noStrike">
              <a:solidFill>
                <a:srgbClr val="ffffff"/>
              </a:solidFill>
              <a:latin typeface="Arial"/>
            </a:endParaRPr>
          </a:p>
          <a:p>
            <a:pPr marL="343080" indent="-343080">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ttp://nirvanaall.ru/knigi.php?i=i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s understand the word "nirvana"</a:t>
            </a:r>
            <a:endParaRPr b="0" lang="en-US" sz="4400" spc="-1" strike="noStrike">
              <a:solidFill>
                <a:srgbClr val="ffffff"/>
              </a:solidFill>
              <a:latin typeface="Times New Roman"/>
            </a:endParaRPr>
          </a:p>
        </p:txBody>
      </p:sp>
      <p:sp>
        <p:nvSpPr>
          <p:cNvPr id="9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fontScale="99000"/>
          </a:bodyPr>
          <a:p>
            <a:pPr marL="339480" indent="-339480">
              <a:lnSpc>
                <a:spcPct val="8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For one word "NIRVANA" means the raised condition it is similar to inspiration, for others - a place of final calm, something like sensitive Paradise. But million admirers of fate understand as it only one - the name of group which overturned idea of the status of rock stars in the 90th. NIRVANA was one of unique representatives of a scene of an underground who found the fans as among fans of an alternative rock music, mosher, panker and among adherents of a traditional rock mainstream.</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a:t>
            </a:r>
            <a:r>
              <a:rPr b="0" lang="ru-RU" sz="4400" spc="-1" strike="noStrike">
                <a:solidFill>
                  <a:srgbClr val="ffffff"/>
                </a:solidFill>
                <a:latin typeface="Times New Roman"/>
              </a:rPr>
              <a:t>roup structure</a:t>
            </a:r>
            <a:endParaRPr b="0" lang="en-US" sz="4400" spc="-1" strike="noStrike">
              <a:solidFill>
                <a:srgbClr val="ffffff"/>
              </a:solidFill>
              <a:latin typeface="Times New Roman"/>
            </a:endParaRPr>
          </a:p>
        </p:txBody>
      </p:sp>
      <p:sp>
        <p:nvSpPr>
          <p:cNvPr id="96"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ffffff"/>
                </a:solidFill>
                <a:latin typeface="Arial"/>
              </a:rPr>
              <a:t>The American rock group created by the vocalist and guitarist Curt Cobain and the bass player Kristom Novoselich in Aberdeen, the State of Washington, in 1987. As a part of collective some drummers were replaced; most long with group played the drummer Dave Grohl who has joined Cobain and Novoselich in 1990.</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Group history</a:t>
            </a:r>
            <a:endParaRPr b="0" lang="en-US" sz="4400" spc="-1" strike="noStrike">
              <a:solidFill>
                <a:srgbClr val="ffffff"/>
              </a:solidFill>
              <a:latin typeface="Times New Roman"/>
            </a:endParaRPr>
          </a:p>
        </p:txBody>
      </p:sp>
      <p:sp>
        <p:nvSpPr>
          <p:cNvPr id="98"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In 1989 of Nirvana became a part of a Seattle musical scene, having let out on Sub Pop indi-label a debut album Bleach. After signing of the contract with a large label of DGC Records (English) русск. Nirvana got unexpected success with the song "Smells Like Teen Spirit" from the second album Nevermind which has been let out in 1991. Subsequently Nirvana entered into a musical mainstream, having spread a subgenre of the alternative fate, called the granzhy. Curt Cobain became not simply musician, and «a generation voice» in the opinion of mass media, and Nirvana became a leader «generations X» [2]. In 1993 there was the third and latest studio album of group, In Utero compositions with which in the musical plan strongly differed from the previous works of collective.</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ason of disintegration of group</a:t>
            </a:r>
            <a:endParaRPr b="0" lang="en-US" sz="4400" spc="-1" strike="noStrike">
              <a:solidFill>
                <a:srgbClr val="ffffff"/>
              </a:solidFill>
              <a:latin typeface="Times New Roman"/>
            </a:endParaRPr>
          </a:p>
        </p:txBody>
      </p:sp>
      <p:sp>
        <p:nvSpPr>
          <p:cNvPr id="100"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ffff"/>
                </a:solidFill>
                <a:latin typeface="Arial"/>
              </a:rPr>
              <a:t>Short, but the bright history of group interrupted in connection with Curt Cobain's death on April 5, 1994, but the next years popularity of team only grew. In 2002 incomplete record of the song "You Know You're Right" over which the group worked shortly before Cobain's death, occupied the first lines of world charts. Since an exit of a debut album of the record Nirvana were sold in number of more than 25 million copies to the USA and more than 50 million worldwide [3] [4].</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3040"/>
            <a:ext cx="8153280" cy="86832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imes New Roman"/>
              </a:rPr>
              <a:t>Sliver</a:t>
            </a:r>
            <a:endParaRPr b="0" lang="en-US" sz="4400" spc="-1" strike="noStrike">
              <a:solidFill>
                <a:srgbClr val="ffffff"/>
              </a:solidFill>
              <a:latin typeface="Times New Roman"/>
            </a:endParaRPr>
          </a:p>
        </p:txBody>
      </p:sp>
      <p:sp>
        <p:nvSpPr>
          <p:cNvPr id="102" name="PlaceHolder 2"/>
          <p:cNvSpPr>
            <a:spLocks noGrp="1"/>
          </p:cNvSpPr>
          <p:nvPr>
            <p:ph/>
          </p:nvPr>
        </p:nvSpPr>
        <p:spPr>
          <a:xfrm>
            <a:off x="533520" y="1557360"/>
            <a:ext cx="4000320" cy="430992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Mom and dad went to a show</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Droped me off a grandpa joe's</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 kicked and screamed, said please, oh no</a:t>
            </a:r>
            <a:endParaRPr b="0" lang="en-US" sz="1800" spc="-1" strike="noStrike">
              <a:solidFill>
                <a:srgbClr val="ffffff"/>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     </a:t>
            </a:r>
            <a:r>
              <a:rPr b="0" i="1" lang="en-US" sz="1800" spc="-1" strike="noStrike">
                <a:solidFill>
                  <a:srgbClr val="ffffff"/>
                </a:solidFill>
                <a:latin typeface="Arial"/>
              </a:rPr>
              <a:t>Grandma take me home</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I wanna be alone</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ad to eat my dinner there</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Had mashed potato's and stuff like that</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Couldnt chew my meat too good</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Said why don't you stop your crying</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Go outside and ride your bike</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hats what I did, I killed my toes</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fter dinner, I had ice cream</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Fell asleep, and watched tv</a:t>
            </a:r>
            <a:endParaRPr b="0" lang="en-US" sz="1800" spc="-1" strike="noStrike">
              <a:solidFill>
                <a:srgbClr val="ffffff"/>
              </a:solidFill>
              <a:latin typeface="Arial"/>
            </a:endParaRPr>
          </a:p>
          <a:p>
            <a:pPr marL="332640" indent="-33264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Woke up in my mother's arms</a:t>
            </a:r>
            <a:endParaRPr b="0" lang="en-US" sz="1800" spc="-1" strike="noStrike">
              <a:solidFill>
                <a:srgbClr val="ffffff"/>
              </a:solidFill>
              <a:latin typeface="Arial"/>
            </a:endParaRPr>
          </a:p>
        </p:txBody>
      </p:sp>
      <p:pic>
        <p:nvPicPr>
          <p:cNvPr id="103" name="" descr=""/>
          <p:cNvPicPr/>
          <p:nvPr/>
        </p:nvPicPr>
        <p:blipFill>
          <a:blip r:embed="rId1"/>
          <a:stretch/>
        </p:blipFill>
        <p:spPr>
          <a:xfrm>
            <a:off x="4284720" y="2205000"/>
            <a:ext cx="4392720" cy="35942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3"/>
                    </p:tgtEl>
                  </p:cond>
                </p:stCondLst>
                <p:childTnLst>
                  <p:par>
                    <p:cTn id="3" fill="hold">
                      <p:stCondLst>
                        <p:cond evt="onClick">
                          <p:tgtEl>
                            <p:spTgt spid="10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7360" y="-8593200"/>
            <a:ext cx="69840" cy="8867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05" name="" descr=""/>
          <p:cNvPicPr/>
          <p:nvPr/>
        </p:nvPicPr>
        <p:blipFill>
          <a:blip r:embed="rId1"/>
          <a:stretch/>
        </p:blipFill>
        <p:spPr>
          <a:xfrm>
            <a:off x="179280" y="333360"/>
            <a:ext cx="3267360" cy="5384880"/>
          </a:xfrm>
          <a:prstGeom prst="rect">
            <a:avLst/>
          </a:prstGeom>
          <a:ln w="0">
            <a:noFill/>
          </a:ln>
        </p:spPr>
      </p:pic>
      <p:pic>
        <p:nvPicPr>
          <p:cNvPr id="106" name="" descr=""/>
          <p:cNvPicPr/>
          <p:nvPr/>
        </p:nvPicPr>
        <p:blipFill>
          <a:blip r:embed="rId2"/>
          <a:stretch/>
        </p:blipFill>
        <p:spPr>
          <a:xfrm>
            <a:off x="3995640" y="3573360"/>
            <a:ext cx="4067280" cy="3051360"/>
          </a:xfrm>
          <a:prstGeom prst="rect">
            <a:avLst/>
          </a:prstGeom>
          <a:ln w="0">
            <a:noFill/>
          </a:ln>
        </p:spPr>
      </p:pic>
      <p:pic>
        <p:nvPicPr>
          <p:cNvPr id="107" name="" descr=""/>
          <p:cNvPicPr/>
          <p:nvPr/>
        </p:nvPicPr>
        <p:blipFill>
          <a:blip r:embed="rId3"/>
          <a:stretch/>
        </p:blipFill>
        <p:spPr>
          <a:xfrm>
            <a:off x="4932360" y="333360"/>
            <a:ext cx="2163600" cy="302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7360" y="-8593200"/>
            <a:ext cx="69840" cy="88678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pic>
        <p:nvPicPr>
          <p:cNvPr id="109" name="" descr=""/>
          <p:cNvPicPr/>
          <p:nvPr/>
        </p:nvPicPr>
        <p:blipFill>
          <a:blip r:embed="rId1"/>
          <a:stretch/>
        </p:blipFill>
        <p:spPr>
          <a:xfrm>
            <a:off x="324000" y="620640"/>
            <a:ext cx="3700440" cy="5146920"/>
          </a:xfrm>
          <a:prstGeom prst="rect">
            <a:avLst/>
          </a:prstGeom>
          <a:ln w="0">
            <a:noFill/>
          </a:ln>
        </p:spPr>
      </p:pic>
      <p:pic>
        <p:nvPicPr>
          <p:cNvPr id="110" name="" descr=""/>
          <p:cNvPicPr/>
          <p:nvPr/>
        </p:nvPicPr>
        <p:blipFill>
          <a:blip r:embed="rId2"/>
          <a:stretch/>
        </p:blipFill>
        <p:spPr>
          <a:xfrm>
            <a:off x="4572000" y="3548160"/>
            <a:ext cx="3672000" cy="3309840"/>
          </a:xfrm>
          <a:prstGeom prst="rect">
            <a:avLst/>
          </a:prstGeom>
          <a:ln w="0">
            <a:noFill/>
          </a:ln>
        </p:spPr>
      </p:pic>
      <p:pic>
        <p:nvPicPr>
          <p:cNvPr id="111" name="" descr=""/>
          <p:cNvPicPr/>
          <p:nvPr/>
        </p:nvPicPr>
        <p:blipFill>
          <a:blip r:embed="rId3"/>
          <a:stretch/>
        </p:blipFill>
        <p:spPr>
          <a:xfrm>
            <a:off x="5148360" y="0"/>
            <a:ext cx="2347920" cy="3344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999900"/>
                </a:solidFill>
                <a:uFillTx/>
                <a:latin typeface="Arial"/>
                <a:hlinkClick r:id="rId1"/>
              </a:rPr>
              <a:t>http://images.yandex.ru/yandsearch?text=%D0%BD%D0%B8%D1%80%D0%B2%D0%B0%D0%BD%D0%B0&amp;img_url=kinobit.org%2Ftorrents%2Fimages%2F2822.jpg&amp;pos=3&amp;rpt=simage&amp;noreask=1&amp;lr=976</a:t>
            </a:r>
            <a:endParaRPr b="0" lang="en-US" sz="1300" spc="-1" strike="noStrike">
              <a:solidFill>
                <a:srgbClr val="ffffff"/>
              </a:solidFill>
              <a:latin typeface="Arial"/>
            </a:endParaRPr>
          </a:p>
          <a:p>
            <a:pPr marL="343080" indent="-343080">
              <a:spcBef>
                <a:spcPts val="3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u="sng">
                <a:solidFill>
                  <a:srgbClr val="999900"/>
                </a:solidFill>
                <a:uFillTx/>
                <a:latin typeface="Arial"/>
                <a:hlinkClick r:id="rId2"/>
              </a:rPr>
              <a:t>http://images.yandex.ru/yandsearch?text=%D0%BD%D0%B8%D1%80%D0%B2%D0%B0%D0%BD%D0%B0%20%D1%84%D0%BE%D1%82%D0%BE&amp;noreask=1&amp;img_url=img1.liveinternet.ru%2Fimages%2Ffoto%2Fb%2F3%2F750%2F2642750%2Ff_14696556.jpg&amp;pos=35&amp;rpt=simage&amp;lr=976</a:t>
            </a:r>
            <a:endParaRPr b="0" lang="en-US" sz="1300" spc="-1" strike="noStrike">
              <a:solidFill>
                <a:srgbClr val="ffffff"/>
              </a:solidFill>
              <a:latin typeface="Arial"/>
            </a:endParaRPr>
          </a:p>
          <a:p>
            <a:pPr marL="343080" indent="-343080">
              <a:spcBef>
                <a:spcPts val="34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999900"/>
                </a:solidFill>
                <a:uFillTx/>
                <a:latin typeface="Arial"/>
                <a:hlinkClick r:id="rId3"/>
              </a:rPr>
              <a:t>http://images.yandex.ru/yandsearch?text=%D0%BD%D0%B8%D1%80%D0%B2%D0%B0%D0%BD%D0%B0%20%D1%84%D0%BE%D1%</a:t>
            </a:r>
            <a:endParaRPr b="0" lang="en-US" sz="1400" spc="-1" strike="noStrike">
              <a:solidFill>
                <a:srgbClr val="ffffff"/>
              </a:solidFill>
              <a:latin typeface="Arial"/>
            </a:endParaRPr>
          </a:p>
          <a:p>
            <a:pPr marL="343080" indent="-343080">
              <a:spcBef>
                <a:spcPts val="4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00"/>
                </a:solidFill>
                <a:uFillTx/>
                <a:latin typeface="Arial"/>
                <a:hlinkClick r:id="rId4"/>
              </a:rPr>
              <a:t>http://images.yandex.ru/yandsearch?text=%D0%BD%D0%B8%D1%80%D0%B2%D0%B0%D0%BD%D0%B0%20%D1%84%D0%BE%D1%82%D0%BE&amp;noreask=1&amp;img_url=img.moskva.fm%2Fuimg%2Fartists%2Fsource%2F17%2F1786f0faf19a86a8b3f1bb36a194ddb2.jpeg&amp;pos=15&amp;rpt=simage&amp;lr=97</a:t>
            </a:r>
            <a:r>
              <a:rPr b="0" lang="en-US" sz="1600" spc="-1" strike="noStrike" u="sng">
                <a:solidFill>
                  <a:srgbClr val="999900"/>
                </a:solidFill>
                <a:uFillTx/>
                <a:latin typeface="Arial"/>
                <a:hlinkClick r:id="rId5"/>
              </a:rPr>
              <a:t>6</a:t>
            </a:r>
            <a:endParaRPr b="0" lang="en-US" sz="1600" spc="-1" strike="noStrike">
              <a:solidFill>
                <a:srgbClr val="ffffff"/>
              </a:solidFill>
              <a:latin typeface="Arial"/>
            </a:endParaRPr>
          </a:p>
          <a:p>
            <a:pPr marL="343080" indent="-343080">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images.yandex.ru/yandsearch?text=%D0%BD%D0%B8%D1%80%D0%B2%D0%B0%D0%BD%D0%B0%20%D1%84%D0%BE%D1%82%D0%BE&amp;noreask=1&amp;img_url=cs11348.vkontakte.ru%2Fu84832335%2F-6%2Fx_be835ddf.jpg&amp;pos=10&amp;rpt=simage&amp;lr=976</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5T11:24:53Z</dcterms:created>
  <dc:creator>Admin</dc:creator>
  <dc:description/>
  <dc:language>en-US</dc:language>
  <cp:lastModifiedBy>Admin</cp:lastModifiedBy>
  <dcterms:modified xsi:type="dcterms:W3CDTF">2012-04-15T16:14:58Z</dcterms:modified>
  <cp:revision>4</cp:revision>
  <dc:subject/>
  <dc:title>Nirvana</dc:title>
</cp:coreProperties>
</file>