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2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28E4-D8B5-4457-A83B-683BF84D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706-2488-4DD6-9802-A4DBD50D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2FD-3CCF-4897-BB63-866A3F64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2C61-2468-440E-B022-7DED262F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79D0-7DFF-40F1-B838-0B4C65CD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E80E-4873-49F9-9293-9A68D853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BC7C-AD71-431E-A80F-C8009E1F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99BA-6598-4802-B1B5-9BC7E7C4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C2E3-4606-43E0-9F5F-A239307A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CF6A-39AC-46C8-B612-AEAAB783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8220-B0AF-4870-A709-B4122473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940C-2832-4059-BF89-95B6CFBC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572A-08EA-4BE4-A830-C0395440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738A-4FB0-4CA6-8E52-D6883EEE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AFCF-0760-437F-89C7-7D474AD9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FA57-D4EC-4BA5-B80B-187FCAED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EC2D-A93F-4AD2-A7C4-F1E050F2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1114-EF60-44F8-A3DF-9F36F5F2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559-A234-4859-90EB-6ABD7684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31FC-AB96-4212-9181-7B7C3D16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3EED-4B29-476D-94B2-10124B6B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E47-2B27-417E-A0EE-97873C12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5250-16A9-47A0-BE0C-248CB7A7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F07A-E337-4993-AA87-66C9EA09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FDDA-C01B-4B03-9C3B-6F2DE4102A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79A3-A803-4FDC-B145-34F1459832A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539640" y="765000"/>
            <a:ext cx="483876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Korzina T.V. school #3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971640" y="4797360"/>
            <a:ext cx="4486320" cy="5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orm 6, Unit 3, lesson 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2" name="WordArt 7"/>
          <p:cNvSpPr txBox="1"/>
          <p:nvPr/>
        </p:nvSpPr>
        <p:spPr>
          <a:xfrm>
            <a:off x="250920" y="3429000"/>
            <a:ext cx="61149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ff6600">
                    <a:alpha val="77000"/>
                  </a:srgbClr>
                </a:solidFill>
                <a:latin typeface="Arial"/>
              </a:rPr>
              <a:t>Do you help about the house?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solidFill>
                <a:srgbClr val="ff6600">
                  <a:alpha val="77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" descr="1E5AC23B42994921A4CD8066F1AB902F"/>
          <p:cNvPicPr/>
          <p:nvPr/>
        </p:nvPicPr>
        <p:blipFill>
          <a:blip r:embed="rId1"/>
          <a:srcRect l="13419" t="0" r="14297" b="0"/>
          <a:stretch/>
        </p:blipFill>
        <p:spPr>
          <a:xfrm>
            <a:off x="3132000" y="838080"/>
            <a:ext cx="6012000" cy="6019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2"/>
          <p:cNvSpPr/>
          <p:nvPr/>
        </p:nvSpPr>
        <p:spPr>
          <a:xfrm rot="19833000">
            <a:off x="363600" y="1295640"/>
            <a:ext cx="3116160" cy="180036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do you thin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e are go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o speak abou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Text Box 13"/>
          <p:cNvGrpSpPr/>
          <p:nvPr/>
        </p:nvGrpSpPr>
        <p:grpSpPr>
          <a:xfrm>
            <a:off x="268200" y="4145040"/>
            <a:ext cx="3462480" cy="1549440"/>
            <a:chOff x="268200" y="4145040"/>
            <a:chExt cx="3462480" cy="1549440"/>
          </a:xfrm>
        </p:grpSpPr>
        <p:pic>
          <p:nvPicPr>
            <p:cNvPr id="96" name="Text Box 13" descr=""/>
            <p:cNvPicPr/>
            <p:nvPr/>
          </p:nvPicPr>
          <p:blipFill>
            <a:blip r:embed="rId2"/>
            <a:stretch/>
          </p:blipFill>
          <p:spPr>
            <a:xfrm>
              <a:off x="268200" y="4145040"/>
              <a:ext cx="346248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 rot="759600">
              <a:off x="538920" y="4508280"/>
              <a:ext cx="292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Look at the pictures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nd give your ideas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bezopasnoe-mytjo-posudy"/>
          <p:cNvPicPr/>
          <p:nvPr/>
        </p:nvPicPr>
        <p:blipFill>
          <a:blip r:embed="rId1"/>
          <a:stretch/>
        </p:blipFill>
        <p:spPr>
          <a:xfrm>
            <a:off x="3419640" y="1628640"/>
            <a:ext cx="5233680" cy="4464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o you know these words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wash the dish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cook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t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e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water flow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sweep the pa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do the wash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repai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clean the ho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do the shop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work in the gar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fee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s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8" descr="stock-photo-two-sisters-in-aprons-and-chef-s-hats-making-a-cake-13062850"/>
          <p:cNvPicPr/>
          <p:nvPr/>
        </p:nvPicPr>
        <p:blipFill>
          <a:blip r:embed="rId2"/>
          <a:stretch/>
        </p:blipFill>
        <p:spPr>
          <a:xfrm>
            <a:off x="4427640" y="1700280"/>
            <a:ext cx="4179960" cy="3454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257_0211"/>
          <p:cNvPicPr/>
          <p:nvPr/>
        </p:nvPicPr>
        <p:blipFill>
          <a:blip r:embed="rId3"/>
          <a:srcRect l="18891" t="1885" r="4252" b="0"/>
          <a:stretch/>
        </p:blipFill>
        <p:spPr>
          <a:xfrm>
            <a:off x="4211640" y="1557360"/>
            <a:ext cx="4392720" cy="3803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raking"/>
          <p:cNvPicPr/>
          <p:nvPr/>
        </p:nvPicPr>
        <p:blipFill>
          <a:blip r:embed="rId4"/>
          <a:stretch/>
        </p:blipFill>
        <p:spPr>
          <a:xfrm>
            <a:off x="4905360" y="1557360"/>
            <a:ext cx="3511440" cy="4680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rabota_po_domu_4"/>
          <p:cNvPicPr/>
          <p:nvPr/>
        </p:nvPicPr>
        <p:blipFill>
          <a:blip r:embed="rId5"/>
          <a:stretch/>
        </p:blipFill>
        <p:spPr>
          <a:xfrm>
            <a:off x="5508720" y="1628640"/>
            <a:ext cx="3019320" cy="3810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spb_b_59040"/>
          <p:cNvPicPr/>
          <p:nvPr/>
        </p:nvPicPr>
        <p:blipFill>
          <a:blip r:embed="rId6"/>
          <a:stretch/>
        </p:blipFill>
        <p:spPr>
          <a:xfrm>
            <a:off x="5219640" y="1484280"/>
            <a:ext cx="3514680" cy="471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502221_4908nothumb500"/>
          <p:cNvPicPr/>
          <p:nvPr/>
        </p:nvPicPr>
        <p:blipFill>
          <a:blip r:embed="rId7"/>
          <a:stretch/>
        </p:blipFill>
        <p:spPr>
          <a:xfrm>
            <a:off x="4284720" y="1413000"/>
            <a:ext cx="4376520" cy="4811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molodaya-devushka-v-supermarkete-delaet-pokupki-0001089541-preview"/>
          <p:cNvPicPr/>
          <p:nvPr/>
        </p:nvPicPr>
        <p:blipFill>
          <a:blip r:embed="rId8"/>
          <a:srcRect l="-9998" t="1456" r="11514" b="-1569"/>
          <a:stretch/>
        </p:blipFill>
        <p:spPr>
          <a:xfrm>
            <a:off x="5219640" y="1413000"/>
            <a:ext cx="3544920" cy="489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04"/>
          <p:cNvPicPr/>
          <p:nvPr/>
        </p:nvPicPr>
        <p:blipFill>
          <a:blip r:embed="rId9"/>
          <a:srcRect l="25667" t="0" r="0" b="706"/>
          <a:stretch/>
        </p:blipFill>
        <p:spPr>
          <a:xfrm>
            <a:off x="4716360" y="1484280"/>
            <a:ext cx="4170600" cy="475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390xxx"/>
          <p:cNvPicPr/>
          <p:nvPr/>
        </p:nvPicPr>
        <p:blipFill>
          <a:blip r:embed="rId10"/>
          <a:srcRect l="8631" t="-1580" r="5235" b="0"/>
          <a:stretch/>
        </p:blipFill>
        <p:spPr>
          <a:xfrm>
            <a:off x="3780000" y="1341360"/>
            <a:ext cx="5040000" cy="4560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33815055"/>
          <p:cNvPicPr/>
          <p:nvPr/>
        </p:nvPicPr>
        <p:blipFill>
          <a:blip r:embed="rId11"/>
          <a:stretch/>
        </p:blipFill>
        <p:spPr>
          <a:xfrm>
            <a:off x="3564000" y="1484280"/>
            <a:ext cx="53974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Who does all housework in your family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7427880" cy="4846680"/>
        </p:xfrm>
        <a:graphic>
          <a:graphicData uri="http://schemas.openxmlformats.org/drawingml/2006/table">
            <a:tbl>
              <a:tblPr/>
              <a:tblGrid>
                <a:gridCol w="2597040"/>
                <a:gridCol w="2454480"/>
                <a:gridCol w="2376360"/>
              </a:tblGrid>
              <a:tr h="459720"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W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Y m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y fa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y gra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y grand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s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the gar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shop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h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flow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sty m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pa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was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dis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o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t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wee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e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85"/>
          <p:cNvSpPr/>
          <p:nvPr/>
        </p:nvSpPr>
        <p:spPr>
          <a:xfrm>
            <a:off x="8101080" y="5229360"/>
            <a:ext cx="81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00"/>
                </a:solidFill>
                <a:latin typeface="Verdan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WordArt 89"/>
          <p:cNvSpPr txBox="1"/>
          <p:nvPr/>
        </p:nvSpPr>
        <p:spPr>
          <a:xfrm rot="5400000">
            <a:off x="6598080" y="3275640"/>
            <a:ext cx="3528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in your family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21:14:25Z</dcterms:created>
  <dc:creator>Customer</dc:creator>
  <dc:description/>
  <dc:language>en-US</dc:language>
  <cp:lastModifiedBy>Б23</cp:lastModifiedBy>
  <dcterms:modified xsi:type="dcterms:W3CDTF">2012-01-31T08:28:35Z</dcterms:modified>
  <cp:revision>3</cp:revision>
  <dc:subject/>
  <dc:title>Слайд 1</dc:title>
</cp:coreProperties>
</file>