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24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25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7.jpeg" ContentType="image/jpeg"/>
  <Override PartName="/ppt/media/image50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1.jpeg" ContentType="image/jpeg"/>
  <Override PartName="/ppt/media/image33.jpeg" ContentType="image/jpeg"/>
  <Override PartName="/ppt/media/image41.jpeg" ContentType="image/jpeg"/>
  <Override PartName="/ppt/media/image45.jpeg" ContentType="image/jpeg"/>
  <Override PartName="/ppt/media/image32.png" ContentType="image/png"/>
  <Override PartName="/ppt/media/image30.png" ContentType="image/png"/>
  <Override PartName="/ppt/media/image42.png" ContentType="image/png"/>
  <Override PartName="/ppt/media/image39.png" ContentType="image/png"/>
  <Override PartName="/ppt/media/image43.jpeg" ContentType="image/jpeg"/>
  <Override PartName="/ppt/media/image34.png" ContentType="image/png"/>
  <Override PartName="/ppt/media/image46.png" ContentType="image/png"/>
  <Override PartName="/ppt/media/image47.jpeg" ContentType="image/jpeg"/>
  <Override PartName="/ppt/media/image44.png" ContentType="image/png"/>
  <Override PartName="/ppt/media/image13.jpeg" ContentType="image/jpeg"/>
  <Override PartName="/ppt/media/image23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4.jpeg" ContentType="image/jpeg"/>
  <Override PartName="/ppt/media/image40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952F-4482-49E7-B1F5-A501B1D1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C7F5-4E4E-4740-93F1-03090F11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A407-C01A-48E3-ADD6-927B8B973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3567-545A-423A-9C2C-A30D78C4B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1AEB-2B3A-4366-83E1-BE8A16E64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50DA-CB7C-49BD-BD14-A05EB6EC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4277-5FF4-4C48-B123-6B95B92A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05DF-E565-48AA-8EEA-2DC0B3AF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1134-D2C4-476C-8998-FCBCF165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32E8-C9A8-4130-BA50-DA5349BA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E5D2-8C4A-4A23-BF43-5D736405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699D-312E-4540-AD70-CBC6491A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11A3-ED05-43F3-8117-86216840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52C1-E461-4BD1-93EA-CD5D154A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A640-CB40-4965-BDBA-7E8F0DD1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CEC6-8A8C-406F-97D9-60B51834B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BA6D-6FEC-40E8-83A4-13B1278C3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AB93-C9E7-49F6-A281-F5606830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52F4-4FE5-4E6E-9D7C-836469FB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BB8D-2758-4533-A22E-51C293F2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B5EF-CBEE-43B6-8169-C5C2AFF2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F8A4-C930-4587-89CB-8768973A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A77D-DEA3-471A-AF66-7AC274EC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ED4E-AC08-4B21-9762-FD3106FB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E3F1-E070-4E50-9BC8-324EBC61912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8667-7B80-48C1-8B02-F760FA9D585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Shushpan"/>
          <p:cNvPicPr/>
          <p:nvPr/>
        </p:nvPicPr>
        <p:blipFill>
          <a:blip r:embed="rId2"/>
          <a:stretch/>
        </p:blipFill>
        <p:spPr>
          <a:xfrm>
            <a:off x="0" y="38160"/>
            <a:ext cx="9144000" cy="6837480"/>
          </a:xfrm>
          <a:prstGeom prst="rect">
            <a:avLst/>
          </a:prstGeom>
          <a:ln w="0">
            <a:noFill/>
          </a:ln>
        </p:spPr>
      </p:pic>
      <p:pic>
        <p:nvPicPr>
          <p:cNvPr id="83" name="Заголовок 1" descr=""/>
          <p:cNvPicPr/>
          <p:nvPr/>
        </p:nvPicPr>
        <p:blipFill>
          <a:blip r:embed="rId3"/>
          <a:stretch/>
        </p:blipFill>
        <p:spPr>
          <a:xfrm>
            <a:off x="900000" y="6021360"/>
            <a:ext cx="6631200" cy="1052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фото поросят"/>
          <p:cNvPicPr/>
          <p:nvPr/>
        </p:nvPicPr>
        <p:blipFill>
          <a:blip r:embed="rId4"/>
          <a:stretch/>
        </p:blipFill>
        <p:spPr>
          <a:xfrm>
            <a:off x="0" y="0"/>
            <a:ext cx="1763640" cy="198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5787"/>
          <p:cNvPicPr/>
          <p:nvPr/>
        </p:nvPicPr>
        <p:blipFill>
          <a:blip r:embed="rId5"/>
          <a:stretch/>
        </p:blipFill>
        <p:spPr>
          <a:xfrm>
            <a:off x="6588000" y="4221000"/>
            <a:ext cx="208944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2"/>
          <a:stretch/>
        </p:blipFill>
        <p:spPr>
          <a:xfrm>
            <a:off x="396720" y="0"/>
            <a:ext cx="8747280" cy="1146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620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summer it is grey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 winter it is whit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e call it Brother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hildren, am I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4" descr="Кот и кролик на фото"/>
          <p:cNvPicPr/>
          <p:nvPr/>
        </p:nvPicPr>
        <p:blipFill>
          <a:blip r:embed="rId3"/>
          <a:stretch/>
        </p:blipFill>
        <p:spPr>
          <a:xfrm>
            <a:off x="0" y="2492280"/>
            <a:ext cx="9144000" cy="54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2"/>
          <a:stretch/>
        </p:blipFill>
        <p:spPr>
          <a:xfrm>
            <a:off x="450720" y="0"/>
            <a:ext cx="8242560" cy="1195560"/>
          </a:xfrm>
          <a:prstGeom prst="rect">
            <a:avLst/>
          </a:prstGeom>
          <a:ln w="0">
            <a:noFill/>
          </a:ln>
        </p:spPr>
      </p:pic>
      <p:pic>
        <p:nvPicPr>
          <p:cNvPr id="112" name="Содержимое 2" descr=""/>
          <p:cNvPicPr/>
          <p:nvPr/>
        </p:nvPicPr>
        <p:blipFill>
          <a:blip r:embed="rId3"/>
          <a:stretch/>
        </p:blipFill>
        <p:spPr>
          <a:xfrm>
            <a:off x="450720" y="1536840"/>
            <a:ext cx="8242560" cy="4778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Фото Baby-004"/>
          <p:cNvPicPr/>
          <p:nvPr/>
        </p:nvPicPr>
        <p:blipFill>
          <a:blip r:embed="rId4"/>
          <a:stretch/>
        </p:blipFill>
        <p:spPr>
          <a:xfrm>
            <a:off x="5435640" y="836640"/>
            <a:ext cx="3708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2"/>
          <a:stretch/>
        </p:blipFill>
        <p:spPr>
          <a:xfrm>
            <a:off x="450720" y="0"/>
            <a:ext cx="8242560" cy="1195560"/>
          </a:xfrm>
          <a:prstGeom prst="rect">
            <a:avLst/>
          </a:prstGeom>
          <a:ln w="0">
            <a:noFill/>
          </a:ln>
        </p:spPr>
      </p:pic>
      <p:pic>
        <p:nvPicPr>
          <p:cNvPr id="115" name="Содержимое 2" descr=""/>
          <p:cNvPicPr/>
          <p:nvPr/>
        </p:nvPicPr>
        <p:blipFill>
          <a:blip r:embed="rId3"/>
          <a:stretch/>
        </p:blipFill>
        <p:spPr>
          <a:xfrm>
            <a:off x="0" y="1127160"/>
            <a:ext cx="8101080" cy="3597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Фильм Кот в шляпе"/>
          <p:cNvPicPr/>
          <p:nvPr/>
        </p:nvPicPr>
        <p:blipFill>
          <a:blip r:embed="rId4"/>
          <a:stretch/>
        </p:blipFill>
        <p:spPr>
          <a:xfrm>
            <a:off x="5724360" y="2133720"/>
            <a:ext cx="3419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2"/>
          <a:stretch/>
        </p:blipFill>
        <p:spPr>
          <a:xfrm>
            <a:off x="450720" y="-171360"/>
            <a:ext cx="8242560" cy="114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-360" y="620640"/>
            <a:ext cx="6877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ry Middling has a pig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t very little, not very big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t very pink, not very gree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t very dirty, not very cle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t very good, not very naughty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t very humble, not very haughty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t very thin, not very fa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 would you give for a pig like tha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4" descr="1213348355_1"/>
          <p:cNvPicPr/>
          <p:nvPr/>
        </p:nvPicPr>
        <p:blipFill>
          <a:blip r:embed="rId3"/>
          <a:stretch/>
        </p:blipFill>
        <p:spPr>
          <a:xfrm>
            <a:off x="5076720" y="2133720"/>
            <a:ext cx="4067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ide …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appy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ig …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rty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kind…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t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2" descr="C:\Documents and Settings\ученик\Рабочий стол\Животные\1288647393_2[1].jpg"/>
          <p:cNvPicPr/>
          <p:nvPr/>
        </p:nvPicPr>
        <p:blipFill>
          <a:blip r:embed="rId3"/>
          <a:stretch/>
        </p:blipFill>
        <p:spPr>
          <a:xfrm>
            <a:off x="4211640" y="3068640"/>
            <a:ext cx="493236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2"/>
          <a:stretch/>
        </p:blipFill>
        <p:spPr>
          <a:xfrm>
            <a:off x="450720" y="201600"/>
            <a:ext cx="8242560" cy="773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6840" y="5714640"/>
            <a:ext cx="30430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43520" indent="-33300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teresting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3520" indent="-33300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mportant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2" descr="C:\Documents and Settings\ученик\Рабочий стол\Животные\1288730055_1[1].jpg"/>
          <p:cNvPicPr/>
          <p:nvPr/>
        </p:nvPicPr>
        <p:blipFill>
          <a:blip r:embed="rId3"/>
          <a:stretch/>
        </p:blipFill>
        <p:spPr>
          <a:xfrm>
            <a:off x="1000080" y="1020600"/>
            <a:ext cx="7215120" cy="46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1" descr=""/>
          <p:cNvPicPr/>
          <p:nvPr/>
        </p:nvPicPr>
        <p:blipFill>
          <a:blip r:embed="rId2"/>
          <a:stretch/>
        </p:blipFill>
        <p:spPr>
          <a:xfrm>
            <a:off x="469800" y="133200"/>
            <a:ext cx="8240760" cy="10130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57200" y="5571720"/>
            <a:ext cx="5400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я кошка красивее чем тво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го собака самая больша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2" descr="C:\Documents and Settings\ученик\Рабочий стол\Животные\5123302[1].jpg"/>
          <p:cNvPicPr/>
          <p:nvPr/>
        </p:nvPicPr>
        <p:blipFill>
          <a:blip r:embed="rId3"/>
          <a:stretch/>
        </p:blipFill>
        <p:spPr>
          <a:xfrm>
            <a:off x="1143000" y="1241280"/>
            <a:ext cx="685800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s for me …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Что касается меня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’m fond of pets.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Я очень люблю животны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y favourite pets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Мои любимые животны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live in a cage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жить в клетк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take care of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заботиться 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ore often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чаще всег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eautiful wings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красивые крыль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yellow beak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жёлтый клю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long tail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длинный хвос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76280" indent="-357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any people are fond of pets. More often they are dog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357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ats, hamsters, guinea-pigs and fish. As for me I lik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357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arrots. They are my favourite pets. They are clever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357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ice. I’ve got a parrot. His name is Kesha. He’s blue. He’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357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t big, he’s little. He has got a small head, a yellow beak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357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 short neck, two beautiful wings and a long tail. He l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357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 a c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357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 teach him to talk. He knows many words and 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357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peak  well. He can answer to his name. I take care of hi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357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 give him food and water every day. He likes fruit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357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vegetables. He likes to fly, play and talk. I love him v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357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uc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2" descr="C:\Documents and Settings\ученик\Рабочий стол\Животные\5123302[1].jpg"/>
          <p:cNvPicPr/>
          <p:nvPr/>
        </p:nvPicPr>
        <p:blipFill>
          <a:blip r:embed="rId3"/>
          <a:stretch/>
        </p:blipFill>
        <p:spPr>
          <a:xfrm>
            <a:off x="6588000" y="52560"/>
            <a:ext cx="255600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1" descr=""/>
          <p:cNvPicPr/>
          <p:nvPr/>
        </p:nvPicPr>
        <p:blipFill>
          <a:blip r:embed="rId2"/>
          <a:stretch/>
        </p:blipFill>
        <p:spPr>
          <a:xfrm>
            <a:off x="426960" y="268200"/>
            <a:ext cx="8393040" cy="1158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ick writes about his …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) animal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) bi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) favourite subjects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d) hams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2. Nick is fond of …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) dog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) hams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) parrot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d) guinea-pi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3. Nick’s pet lives …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) in a cag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) at h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) in the forest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d) in the pa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4. Nicks parrot is …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) yellow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) brow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) orang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d) b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5. Nick’s parrot has got …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) a small neck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) a long ne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b) a big neck</a:t>
            </a: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d) a short neck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обучающая: закрепление активной лексики, совершенствование навыков аудирования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создание ситуаций успеха каждого ученик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развивающая: развитие навыка работы в паре, в группе, активности и внимания учащихся в групп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воспитательная: воспитание культуры общения, обучение игровому общению в группе, привитие интереса к иностранному язы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Rectangle 2" descr=""/>
          <p:cNvPicPr/>
          <p:nvPr/>
        </p:nvPicPr>
        <p:blipFill>
          <a:blip r:embed="rId2"/>
          <a:stretch/>
        </p:blipFill>
        <p:spPr>
          <a:xfrm>
            <a:off x="450720" y="219240"/>
            <a:ext cx="8242560" cy="12078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fond of, many people, pe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like, I, as for me, parro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my, they, are, pets, favouri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are, clever, nice, and, the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have, got, I, a parr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Kesha, his, is, na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words, many, knows, h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take care, I, pet, of, m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food, give, him, I, and, every day, wa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parrot, my, to fly, likes, play and tal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Oval 4"/>
          <p:cNvSpPr/>
          <p:nvPr/>
        </p:nvSpPr>
        <p:spPr>
          <a:xfrm>
            <a:off x="5724360" y="1413000"/>
            <a:ext cx="3203640" cy="3960720"/>
          </a:xfrm>
          <a:prstGeom prst="ellipse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 mistakes –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-2 mistakes –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-4 mistakes –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 4 mistakes–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1" descr=""/>
          <p:cNvPicPr/>
          <p:nvPr/>
        </p:nvPicPr>
        <p:blipFill>
          <a:blip r:embed="rId2"/>
          <a:stretch/>
        </p:blipFill>
        <p:spPr>
          <a:xfrm>
            <a:off x="450720" y="-30240"/>
            <a:ext cx="8242560" cy="10112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57200" y="148392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333720" indent="-25056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have a do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720" indent="-25056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is name is p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720" indent="-25056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e can do thi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720" indent="-25056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e can do th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720" indent="-25056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ook at my dog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3720" indent="-25056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ricks he can do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3720" indent="-25056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 love my dog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3720" indent="-25056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e love’s me to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7" descr="Собаки-йоги в необычных позах (12 фото)"/>
          <p:cNvPicPr/>
          <p:nvPr/>
        </p:nvPicPr>
        <p:blipFill>
          <a:blip r:embed="rId3"/>
          <a:stretch/>
        </p:blipFill>
        <p:spPr>
          <a:xfrm>
            <a:off x="3851280" y="1143000"/>
            <a:ext cx="47926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Заголовок 1" descr=""/>
          <p:cNvPicPr/>
          <p:nvPr/>
        </p:nvPicPr>
        <p:blipFill>
          <a:blip r:embed="rId2"/>
          <a:stretch/>
        </p:blipFill>
        <p:spPr>
          <a:xfrm>
            <a:off x="469800" y="262080"/>
            <a:ext cx="8240760" cy="1152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2556000" y="3906720"/>
            <a:ext cx="61308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14440" indent="-3862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re lived two pusse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wo merry, merry pusse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one’s grey, the other’s whit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wo merry, merry pu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one’s grey, the other’s white 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wo merry, merry pu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4" descr="Фото котят"/>
          <p:cNvPicPr/>
          <p:nvPr/>
        </p:nvPicPr>
        <p:blipFill>
          <a:blip r:embed="rId3"/>
          <a:stretch/>
        </p:blipFill>
        <p:spPr>
          <a:xfrm>
            <a:off x="179280" y="1149480"/>
            <a:ext cx="475308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2700000" y="4076640"/>
            <a:ext cx="5986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10400" indent="-30816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ickory, dickory dock duck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0400" indent="-30816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ickory dickory duck dock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0400" indent="-30816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one’s grey, the other’s whit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0400" indent="-30816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wo merry, merry pu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1240" indent="-211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one’s grey, the other’s whit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1240" indent="-211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wo merry, merry pu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4" descr="Фото котят"/>
          <p:cNvPicPr/>
          <p:nvPr/>
        </p:nvPicPr>
        <p:blipFill>
          <a:blip r:embed="rId3"/>
          <a:stretch/>
        </p:blipFill>
        <p:spPr>
          <a:xfrm>
            <a:off x="179280" y="189000"/>
            <a:ext cx="68407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Выучить стихи про живот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раздаточный материа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Подготовить рассказ в письменной  и устной форм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 своём любимом животн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3" descr="C:\Documents and Settings\S@shka\Рабочий стол\0_21_2171_1140608320.jpg"/>
          <p:cNvPicPr/>
          <p:nvPr/>
        </p:nvPicPr>
        <p:blipFill>
          <a:blip r:embed="rId3"/>
          <a:stretch/>
        </p:blipFill>
        <p:spPr>
          <a:xfrm>
            <a:off x="468360" y="3500280"/>
            <a:ext cx="8280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152" name="WordArt 4"/>
          <p:cNvSpPr txBox="1"/>
          <p:nvPr/>
        </p:nvSpPr>
        <p:spPr>
          <a:xfrm>
            <a:off x="2057400" y="2421000"/>
            <a:ext cx="511164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Impact"/>
              </a:rPr>
              <a:t>You are the bes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Заголовок 1" descr=""/>
          <p:cNvPicPr/>
          <p:nvPr/>
        </p:nvPicPr>
        <p:blipFill>
          <a:blip r:embed="rId2"/>
          <a:stretch/>
        </p:blipFill>
        <p:spPr>
          <a:xfrm>
            <a:off x="450720" y="189000"/>
            <a:ext cx="8242560" cy="12380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2" descr="C:\Documents and Settings\ученик\Рабочий стол\Животные\1291583601_5[1].jpg"/>
          <p:cNvPicPr/>
          <p:nvPr/>
        </p:nvPicPr>
        <p:blipFill>
          <a:blip r:embed="rId3"/>
          <a:stretch/>
        </p:blipFill>
        <p:spPr>
          <a:xfrm>
            <a:off x="428760" y="1571760"/>
            <a:ext cx="828648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активизировать лексический материал по теме «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NIMAL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»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практиковать учащихся в употреблении имен прилагательных в сравнительной и превосходной степен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актиковать учащихся в аудировании текста на иностранном язык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подготовить учащихся к рассказу о своём питомц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2"/>
          <a:stretch/>
        </p:blipFill>
        <p:spPr>
          <a:xfrm>
            <a:off x="450720" y="0"/>
            <a:ext cx="8242560" cy="1195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28760" y="10000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at’s cat is Pat’s black h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y black cat likes to sit in my black c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2" descr="C:\Documents and Settings\ученик\Рабочий стол\Животные\1291671862_dd[1].jpg"/>
          <p:cNvPicPr/>
          <p:nvPr/>
        </p:nvPicPr>
        <p:blipFill>
          <a:blip r:embed="rId3"/>
          <a:stretch/>
        </p:blipFill>
        <p:spPr>
          <a:xfrm>
            <a:off x="611280" y="2133720"/>
            <a:ext cx="820872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5" descr="Гусь Домашние птицы"/>
          <p:cNvPicPr/>
          <p:nvPr/>
        </p:nvPicPr>
        <p:blipFill>
          <a:blip r:embed="rId3"/>
          <a:stretch/>
        </p:blipFill>
        <p:spPr>
          <a:xfrm>
            <a:off x="714240" y="1714680"/>
            <a:ext cx="771552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can skip and play football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ckey, tennis, basketb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can jump and I can ru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can have a lot of fu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5" descr="Фото Игоря Губарева: Дети обожают подвижные фотопостановки, особенно игру в бетманов."/>
          <p:cNvPicPr/>
          <p:nvPr/>
        </p:nvPicPr>
        <p:blipFill>
          <a:blip r:embed="rId3"/>
          <a:stretch/>
        </p:blipFill>
        <p:spPr>
          <a:xfrm>
            <a:off x="5148360" y="1197000"/>
            <a:ext cx="39956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2"/>
          <a:stretch/>
        </p:blipFill>
        <p:spPr>
          <a:xfrm>
            <a:off x="450720" y="-171360"/>
            <a:ext cx="8242560" cy="1079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785880"/>
            <a:ext cx="822960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ome people live in the c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ere the houses are very tall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4760" indent="-268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ome people live in the countr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24760" indent="-268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      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here the houses are very small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24760" indent="-268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But in the countr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24760" indent="-268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here the houses are small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24760" indent="-268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e gardens are very big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24760" indent="-268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nd in the citie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24760" indent="-268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here the houses are tal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24760" indent="-268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ere are no gardens at all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24760" indent="-268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6" descr="Click me to rate me!"/>
          <p:cNvPicPr/>
          <p:nvPr/>
        </p:nvPicPr>
        <p:blipFill>
          <a:blip r:embed="rId3"/>
          <a:stretch/>
        </p:blipFill>
        <p:spPr>
          <a:xfrm>
            <a:off x="179280" y="4286160"/>
            <a:ext cx="87854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2"/>
          <a:stretch/>
        </p:blipFill>
        <p:spPr>
          <a:xfrm>
            <a:off x="450720" y="-19080"/>
            <a:ext cx="8242560" cy="7873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230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’m not big. I’m little. I’m grey or whi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’m funny. I can run and jum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can’t fly and swim. I’m not stro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live on the farm. I’m 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5" descr="Фото Три весёлых гуся   :)"/>
          <p:cNvPicPr/>
          <p:nvPr/>
        </p:nvPicPr>
        <p:blipFill>
          <a:blip r:embed="rId3"/>
          <a:stretch/>
        </p:blipFill>
        <p:spPr>
          <a:xfrm>
            <a:off x="857160" y="2708280"/>
            <a:ext cx="75726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2"/>
          <a:stretch/>
        </p:blipFill>
        <p:spPr>
          <a:xfrm>
            <a:off x="450720" y="0"/>
            <a:ext cx="8242560" cy="119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is green, it can jump, it can swim in the river, it cannot fly, it cannot run, it is 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6" descr="жаба"/>
          <p:cNvPicPr/>
          <p:nvPr/>
        </p:nvPicPr>
        <p:blipFill>
          <a:blip r:embed="rId3"/>
          <a:stretch/>
        </p:blipFill>
        <p:spPr>
          <a:xfrm>
            <a:off x="179280" y="2133720"/>
            <a:ext cx="87854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11:26:20Z</dcterms:created>
  <dc:creator>Гость</dc:creator>
  <dc:description/>
  <dc:language>en-US</dc:language>
  <cp:lastModifiedBy>user_2</cp:lastModifiedBy>
  <dcterms:modified xsi:type="dcterms:W3CDTF">2012-06-29T07:21:54Z</dcterms:modified>
  <cp:revision>48</cp:revision>
  <dc:subject/>
  <dc:title>ANIMALS</dc:title>
</cp:coreProperties>
</file>