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262-FA99-43D7-8F61-2CFEE6CA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C24-3283-4EDF-982F-5FBFD40B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884-8F1C-4561-88D3-32FBFF5A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405-BE93-4B7C-B8A9-9E9A09E8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B4C-CF68-4A38-9CA5-BF87C4D4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CA6-6B05-42C5-A367-17F3D591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083-1110-42C4-AD19-DF11182E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B82-B1BA-4D8E-B611-467B76E2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9C2-076C-4412-9A7D-87FCC83E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70A-322B-4CA7-8D10-73A9EF11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97E-55FC-448E-9049-7A760EB5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074-92A6-4D52-8F17-7A50B6A8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F141-4849-42E5-8F82-7F8A3E6C90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1.hubimg.com/u/2387816_f520.jpg" TargetMode="External"/><Relationship Id="rId2" Type="http://schemas.openxmlformats.org/officeDocument/2006/relationships/hyperlink" Target="http://s1.hubimg.com/u/2387816_f520.jpg" TargetMode="External"/><Relationship Id="rId3" Type="http://schemas.openxmlformats.org/officeDocument/2006/relationships/hyperlink" Target="http://en.wikipedia.org/wiki/File:William_Shakespeare_-birthplace_-house2.jpg" TargetMode="External"/><Relationship Id="rId4" Type="http://schemas.openxmlformats.org/officeDocument/2006/relationships/hyperlink" Target="http://www.countries.ru/img/anglia/shakespeare/3.jpg" TargetMode="External"/><Relationship Id="rId5" Type="http://schemas.openxmlformats.org/officeDocument/2006/relationships/hyperlink" Target="http://en.wikipedia.org/wiki/File:AnneHathaway_CUL_Page4DetailB.jpg" TargetMode="External"/><Relationship Id="rId6" Type="http://schemas.openxmlformats.org/officeDocument/2006/relationships/hyperlink" Target="http://en.wikipedia.org/wiki/File:Thomas_Banks_Shakespeare_attended_by_Painting_and_Poetry_c_1789.jpg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1.hubimg.com/u/2387816_f520.jpg"/>
          <p:cNvPicPr/>
          <p:nvPr/>
        </p:nvPicPr>
        <p:blipFill>
          <a:blip r:embed="rId1"/>
          <a:stretch/>
        </p:blipFill>
        <p:spPr>
          <a:xfrm>
            <a:off x="2556000" y="1268280"/>
            <a:ext cx="3887640" cy="44560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908000" y="676440"/>
            <a:ext cx="5187960" cy="46274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7" descr=""/>
          <p:cNvPicPr/>
          <p:nvPr/>
        </p:nvPicPr>
        <p:blipFill>
          <a:blip r:embed="rId3"/>
          <a:stretch/>
        </p:blipFill>
        <p:spPr>
          <a:xfrm>
            <a:off x="3492360" y="5589720"/>
            <a:ext cx="21034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i5.beon.ru/48/11/451148/83/12195783/pr4_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50920" y="549360"/>
            <a:ext cx="84978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5. What theatre did Shakespeare f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the Victoria Thea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the Globe Thea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the Apollo Thea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the Bolshoi Thea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324000" y="4762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. the Globe Thea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tmb-city.ru/wp-content/uploads/2013/08/novyj-teatr-globus-v-Londone.jpg"/>
          <p:cNvPicPr/>
          <p:nvPr/>
        </p:nvPicPr>
        <p:blipFill>
          <a:blip r:embed="rId1"/>
          <a:stretch/>
        </p:blipFill>
        <p:spPr>
          <a:xfrm>
            <a:off x="684360" y="1484280"/>
            <a:ext cx="77961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ttp://i5.beon.ru/48/11/451148/83/12195783/pr4_1.jpeg"/>
          <p:cNvPicPr/>
          <p:nvPr/>
        </p:nvPicPr>
        <p:blipFill>
          <a:blip r:embed="rId1"/>
          <a:stretch/>
        </p:blipFill>
        <p:spPr>
          <a:xfrm>
            <a:off x="-4680" y="-11160"/>
            <a:ext cx="9148680" cy="686916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250920" y="549360"/>
            <a:ext cx="84978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6. Which gen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didn’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Shakespeare write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come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trage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cience f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324000" y="4762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. science f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File:Title page William Shakespeare's First Folio 1623.jpg"/>
          <p:cNvPicPr/>
          <p:nvPr/>
        </p:nvPicPr>
        <p:blipFill>
          <a:blip r:embed="rId1"/>
          <a:stretch/>
        </p:blipFill>
        <p:spPr>
          <a:xfrm>
            <a:off x="2987640" y="1197000"/>
            <a:ext cx="3313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ttp://i5.beon.ru/48/11/451148/83/12195783/pr4_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50920" y="549360"/>
            <a:ext cx="84978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7.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Continue the phrase from Shakespeare’s play “As You Like It”: “All the world’s 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“…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a stag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“…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a roun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“…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a fus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“…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mine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324000" y="4762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. “… a stag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ttp://ikar62.ru/upload/images/b6/b6e3105e04c84303c749a58d255737cbthumb640x480.jpg"/>
          <p:cNvPicPr/>
          <p:nvPr/>
        </p:nvPicPr>
        <p:blipFill>
          <a:blip r:embed="rId1"/>
          <a:stretch/>
        </p:blipFill>
        <p:spPr>
          <a:xfrm>
            <a:off x="2732040" y="1209600"/>
            <a:ext cx="3384720" cy="2619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39800" y="4060800"/>
            <a:ext cx="7664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 the world's a stage,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all the men and women merely players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have their exits and their entrances,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one man in his time plays many parts,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s acts being seven 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763640" y="2602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dalus"/>
              </a:rPr>
              <a:t>The seven ages of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File:Sculpture 'Seven Ages Of Man'-Queen Victoria Street-London.jpg"/>
          <p:cNvPicPr/>
          <p:nvPr/>
        </p:nvPicPr>
        <p:blipFill>
          <a:blip r:embed="rId1"/>
          <a:stretch/>
        </p:blipFill>
        <p:spPr>
          <a:xfrm>
            <a:off x="187200" y="981000"/>
            <a:ext cx="3800520" cy="5705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4140360" y="1844640"/>
            <a:ext cx="47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hool-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ld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d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ond childish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://i5.beon.ru/48/11/451148/83/12195783/pr4_1.jpe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28440" y="339840"/>
            <a:ext cx="849816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. Which heroine from a Shakespeare’s play is portrayed in this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Juli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Cleopa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Dezdem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Ophe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File:John Everett Millais - Ophelia - Google Art Project.jpg"/>
          <p:cNvPicPr/>
          <p:nvPr/>
        </p:nvPicPr>
        <p:blipFill>
          <a:blip r:embed="rId2"/>
          <a:stretch/>
        </p:blipFill>
        <p:spPr>
          <a:xfrm>
            <a:off x="3108240" y="1773360"/>
            <a:ext cx="60357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324000" y="4762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. Ophe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File:John Everett Millais - Ophelia - Google Art Project.jpg"/>
          <p:cNvPicPr/>
          <p:nvPr/>
        </p:nvPicPr>
        <p:blipFill>
          <a:blip r:embed="rId1"/>
          <a:stretch/>
        </p:blipFill>
        <p:spPr>
          <a:xfrm>
            <a:off x="1403280" y="1184400"/>
            <a:ext cx="6566040" cy="4464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949400" y="5711760"/>
            <a:ext cx="54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hn Everett Millais “Ophelia” (1851-185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http://i5.beon.ru/48/11/451148/83/12195783/pr4_1.jpe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250920" y="549360"/>
            <a:ext cx="84978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9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. The name of what Shakespeare’s play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sn’t pronounced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by ac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Macbe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Othe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King L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The Temp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i5.beon.ru/48/11/451148/83/12195783/pr4_1.jpe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81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250920" y="549360"/>
            <a:ext cx="84978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Where was Shakespeare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Lond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Oxf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Brigh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ratford-upon-Av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324000" y="4762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. Macbe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File:Johann Heinrich Füssli 030.jpg"/>
          <p:cNvPicPr/>
          <p:nvPr/>
        </p:nvPicPr>
        <p:blipFill>
          <a:blip r:embed="rId1"/>
          <a:stretch/>
        </p:blipFill>
        <p:spPr>
          <a:xfrm>
            <a:off x="755640" y="1654200"/>
            <a:ext cx="3119400" cy="437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File:Macbeth consulting the Vision of the Armed Head.jpg"/>
          <p:cNvPicPr/>
          <p:nvPr/>
        </p:nvPicPr>
        <p:blipFill>
          <a:blip r:embed="rId2"/>
          <a:stretch/>
        </p:blipFill>
        <p:spPr>
          <a:xfrm>
            <a:off x="4788000" y="1654200"/>
            <a:ext cx="35290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://i5.beon.ru/48/11/451148/83/12195783/pr4_1.jpe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50920" y="549360"/>
            <a:ext cx="84978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10. What Russian composer wrote the music for the ballet “Romeo and Juliet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M.I. Gli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.S. Prokofi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P.I. Tchaikov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N.A. Rimsky-Korsak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24000" y="4762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. S.S. Prokofi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File:Sergei Prokofiev 02.jpg"/>
          <p:cNvPicPr/>
          <p:nvPr/>
        </p:nvPicPr>
        <p:blipFill>
          <a:blip r:embed="rId1"/>
          <a:stretch/>
        </p:blipFill>
        <p:spPr>
          <a:xfrm>
            <a:off x="2035080" y="1184400"/>
            <a:ext cx="50738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79280" y="105264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http://en.wikipedia.org/wiki/Shakespe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http://s1.hubimg.com/u/2387816_f52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http://en.wikipedia.org/wiki/File:William_Shakespeare_-birthplace_-house2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http://www.countries.ru/img/anglia/shakespeare/3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http://en.wikipedia.org/wiki/File:AnneHathaway_CUL_Page4DetailB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6"/>
              </a:rPr>
              <a:t>http://en.wikipedia.org/wiki/File:Thomas_Banks_Shakespeare_attended_by_Painting_and_Poetry_c_1789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en.wikipedia.org/wiki/File:Title_page_William_Shakespeare%27s_First_Folio_1623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en.wikipedia.org/wiki/File:Sculpture_%27Seven_Ages_Of_Man%27-Queen_Victoria_Street-London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en.wikipedia.org/wiki/File:John_Everett_Millais_-_Ophelia_-_Google_Art_Project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en.wikipedia.org/wiki/File:Johann_Heinrich_F%C3%BCssli_030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en.wikipedia.org/wiki/File:Macbeth_consulting_the_Vision_of_the_Armed_Head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324000" y="4762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. Stratford-upon-Av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File:William Shakespeare -birthplace -house2.jpg"/>
          <p:cNvPicPr/>
          <p:nvPr/>
        </p:nvPicPr>
        <p:blipFill>
          <a:blip r:embed="rId1"/>
          <a:stretch/>
        </p:blipFill>
        <p:spPr>
          <a:xfrm>
            <a:off x="1258920" y="119700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2627280" y="6308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kespeare’s birth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i5.beon.ru/48/11/451148/83/12195783/pr4_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250920" y="549360"/>
            <a:ext cx="84978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2. What was Shakespeare’s 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a ban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a gl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a wri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a post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4000" y="4762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. a gl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www.countries.ru/img/anglia/shakespeare/3.jpg"/>
          <p:cNvPicPr/>
          <p:nvPr/>
        </p:nvPicPr>
        <p:blipFill>
          <a:blip r:embed="rId1"/>
          <a:stretch/>
        </p:blipFill>
        <p:spPr>
          <a:xfrm>
            <a:off x="2484360" y="1197000"/>
            <a:ext cx="41194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i5.beon.ru/48/11/451148/83/12195783/pr4_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250920" y="549360"/>
            <a:ext cx="84978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3. What was the name of Shakespeare’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Anne Hatha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Katy Pe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Emma Wat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Lady Ga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24000" y="4762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. Anne Hatha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File:AnneHathaway CUL Page4DetailB.jpg"/>
          <p:cNvPicPr/>
          <p:nvPr/>
        </p:nvPicPr>
        <p:blipFill>
          <a:blip r:embed="rId1"/>
          <a:stretch/>
        </p:blipFill>
        <p:spPr>
          <a:xfrm>
            <a:off x="2411280" y="1197000"/>
            <a:ext cx="417672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i5.beon.ru/48/11/451148/83/12195783/pr4_1.jpe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78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250920" y="549360"/>
            <a:ext cx="84978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4. How do people call Shakespe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the Master of poetr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the Brilliant of Stratfor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the Bard of Avo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the Conqueror of Londo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24000" y="4762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. “the Bard of Avo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ile:Thomas Banks Shakespeare attended by Painting and Poetry c 1789.jpg"/>
          <p:cNvPicPr/>
          <p:nvPr/>
        </p:nvPicPr>
        <p:blipFill>
          <a:blip r:embed="rId1"/>
          <a:stretch/>
        </p:blipFill>
        <p:spPr>
          <a:xfrm>
            <a:off x="2627280" y="1197000"/>
            <a:ext cx="3924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05:54:59Z</dcterms:created>
  <dc:creator>Гость</dc:creator>
  <dc:description/>
  <dc:language>en-US</dc:language>
  <cp:lastModifiedBy>Будник</cp:lastModifiedBy>
  <dcterms:modified xsi:type="dcterms:W3CDTF">2014-04-17T15:29:48Z</dcterms:modified>
  <cp:revision>42</cp:revision>
  <dc:subject/>
  <dc:title>Слайд 1</dc:title>
</cp:coreProperties>
</file>